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66CB-891E-4582-B83C-B2C294DF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CB19-D7DE-411A-BA37-4DB71F5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8492-1106-4A82-90E2-519233D7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22C3-B3C0-45CF-BE7A-F4C097D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FFE-4F43-49D2-92B1-FDACEA56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A74-8527-4565-8E0B-1FE8C72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34B-93A1-4D11-9049-30834CC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540-0FAD-4BFC-B162-A8581F7D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FB94-C15B-4AF1-8E72-9858F8D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8FA-CC1E-47A5-A28B-EF479CE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BCB5-F968-4974-A22B-CC3DE58B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4DCB-842E-4104-96CE-245E276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53F-E8AE-49F8-A9D7-F641E5D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030F-8986-44C0-B202-961F272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C021-F420-4892-9D6A-3AE60AE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A4E6-9E1B-4FE4-B1D2-9B3C3504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FDCA-DF00-461B-B7EF-6BF889AD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BFC9-2CCD-4709-B644-5BD0BBE6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6C31-3093-4752-9F40-DDD15A3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A54F-9B44-4BF7-9274-4B31E9C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2711-12BD-4E52-9123-780B9219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5B25-569C-4824-AD9D-764F9F1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D625-E439-4569-9D54-F90312C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0309-363D-4DAB-AF57-3FE9AB5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E98-5D41-48DE-BE2C-BD48C9273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C3C-293A-49D0-9E19-BE0E05EFB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dau combustibilii c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ldur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obţine lucru mecanic atunci când un gaz se dilată în cilindrul cu piston mo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30:39Z</dcterms:modified>
  <cp:revision>7</cp:revision>
  <dc:subject/>
  <dc:title>Petrolul mişcă omenirea</dc:title>
</cp:coreProperties>
</file>